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72FB-6796-477A-8083-05688FA4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E6A-17C1-45CD-AF5E-70C1B67C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8B1-9BF5-4FAA-8EBF-5D87EECA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D48-0DAA-4A5E-82C0-E57FE051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B4CC-240B-409B-B89A-6B0F53EA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9063-D8B8-4893-901A-02076298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2FB4-225C-4656-8CFA-3AA995E5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358A-5C6C-4E48-9A30-7A16D121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9F3B-24D5-4C58-98A4-5E270432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3475-C065-4799-AAC7-0846B087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19AD-E7E9-43AC-968B-91D44BAC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A3E-3593-4547-871D-0CAEE42C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ABA8-AE9F-4258-82D5-683A0957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1ACB-7F8D-4E47-878C-D8FADB58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1DE6-A96A-4B9D-BBD4-BCBBD7C1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F3AD-D941-4910-9086-77D2FCB8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2208-BF29-4D8D-83E3-A07CA61F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4BD-F5C2-4902-88E9-DE9FA469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E53-F2AC-4718-B9B0-36808DB8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6C5-79D9-456E-A93A-A280D8F8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EE8-4740-4C0D-A2D0-88F254A7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BE6-D273-4EF6-BE7C-57A35022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F04-C612-4C57-883A-B6B1FD7B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9EE-BD53-463A-9C93-B815CA51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D5A4-440C-4360-9A9B-815B7B90FA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FFFC-BB2A-4A13-AF1E-CB9D5F4FC63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vxoware/" TargetMode="External"/><Relationship Id="rId2" Type="http://schemas.openxmlformats.org/officeDocument/2006/relationships/hyperlink" Target="http://sourceforge.net/projects/vxoware/" TargetMode="External"/><Relationship Id="rId3" Type="http://schemas.openxmlformats.org/officeDocument/2006/relationships/hyperlink" Target="http://sourceforge.net/projects/vxoware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28600" y="225360"/>
            <a:ext cx="861048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AA Data User Worksho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 To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Targeting Environmental Information Us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dnesday, January 7, 2009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:00 - 2:10 pm  Track Introduction - T. Owe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:10 - 2:35 pm  Climate Portal: Technical Step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 Successful Deployment - D. Herring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:35 - 3:00 pm The GEOSS Architecture Implementation Pilot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. Rutledge, G. Percivall, K. McDonal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:00 - 3:25 p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 SNAAP API - E. Kih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:25 - 3:30 p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iew of Discussion Sessio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:30 - 4:00 p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k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:00 - 5:15 p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ated Discussion Perio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:15 - 5:30 p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Step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27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Access Tools:  From Punch Cards to Petaby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rcRect l="0" t="0" r="4769" b="0"/>
          <a:stretch/>
        </p:blipFill>
        <p:spPr>
          <a:xfrm>
            <a:off x="380880" y="914400"/>
            <a:ext cx="3048120" cy="14572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914400" y="2971800"/>
            <a:ext cx="3809880" cy="31161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4191120" y="914400"/>
            <a:ext cx="3429000" cy="2151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6118200" y="2590920"/>
            <a:ext cx="2481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04920" y="1016280"/>
            <a:ext cx="861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Access Tools:  Foundations for Succes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nd Information for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ion of Authoritative Long-Term Rec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Quality Monitoring for Long-Term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-Term Preservation of Data an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rchaeology and Resc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572000" y="28951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04920" y="-36720"/>
            <a:ext cx="8610480" cy="67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AA Data User Workshop: Access To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Targeting Environmental Information Us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wer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DIS Drought Por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pinning up regional pilot activities and regional depiction of drou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orking with GEO to begin addressing global and international drought monitoring and forecas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ring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mate Portal: Technical Steps to a Successful Deplo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inalize and baseline portal requirements docu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evelopment Team begins work; User testing … ongoing and often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tand up portal infrastructure at N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ecure FGDC metadata from participating offices for Phase 1 data/produ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lpha and Beta reviews; Continue enhancements of functionality and cont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n-line release to public (~ September 200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tled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GEOSS Architecture Implementation Pil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hat are your agency’s current plans for exposing or publishing your pertinent metadata and/or information to the GEOSS  Common Infrastructure -GCI?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hat, if any, are your preferred interfaces to expose this information?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hat, if any, are your concerns or technical issues that may prevent or interfere with interacting with the GCI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How can ESIP play a rol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h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CLASS SNAAP API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Plan transition to operations (CLASS Tea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Plan to include non-granule based asynchronus (i.e. models, transforms) data extra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Enhance the connection with GEO-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Upgrade to DAI 3.0 - D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Expand proto-type to cover more NOAA and non-NOAA data types and services and document lessons learn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Release the work to the public:  Metadata tool is available as VxOware </a:t>
            </a:r>
            <a:r>
              <a:rPr b="0" lang="en-US" sz="1400" spc="-1" strike="noStrike" u="sng">
                <a:solidFill>
                  <a:srgbClr val="a3c145"/>
                </a:solidFill>
                <a:uFillTx/>
                <a:latin typeface="Arial Narrow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a3c145"/>
                </a:solidFill>
                <a:uFillTx/>
                <a:latin typeface="Arial Narrow"/>
                <a:hlinkClick r:id="rId2"/>
              </a:rPr>
              <a:t>sourceforge.net/projects/vxoware</a:t>
            </a:r>
            <a:r>
              <a:rPr b="0" lang="en-US" sz="1400" spc="-1" strike="noStrike" u="sng">
                <a:solidFill>
                  <a:srgbClr val="a3c145"/>
                </a:solidFill>
                <a:uFillTx/>
                <a:latin typeface="Arial Narrow"/>
                <a:hlinkClick r:id="rId3"/>
              </a:rPr>
              <a:t>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ork on single user sign-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40:36Z</dcterms:created>
  <dc:creator>NCDC Employee</dc:creator>
  <dc:description/>
  <dc:language>en-US</dc:language>
  <cp:lastModifiedBy> </cp:lastModifiedBy>
  <dcterms:modified xsi:type="dcterms:W3CDTF">2009-01-07T22:10:47Z</dcterms:modified>
  <cp:revision>4</cp:revision>
  <dc:subject/>
  <dc:title>Slide 1</dc:title>
</cp:coreProperties>
</file>